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416E-8C85-4424-859C-864599F44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EC15-2684-43F3-871D-E91E11180C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9CCD-33B4-4294-87E5-F12311BA79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70B2-A641-4DFF-AE09-0EBD473175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940-C15F-4AB1-BFCD-C5EC396E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6C0-D07F-4A3A-9D77-F2CA70F9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DA7-E8C3-4806-BA89-174ABDDC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F36-1706-45ED-B39A-EBC65B80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CF89-3C22-4673-BFE0-6E0F3F2A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4AD4-00BB-4D0C-87D0-FC143755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C08B-9730-4B85-8ED8-C31D7ED1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9900-B56B-4CD4-90C3-C969BEB0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87AF-84DF-499D-AB7D-161941E5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6DBB-57EC-4CFD-B1F6-3D97BFFE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90B-7220-49E1-9525-2961B6B3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D96-D798-45CF-BF2F-F76833D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E007-E886-4986-A45F-05CC4699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25A6-DFE9-4009-A0A3-938286A0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2AA1-4397-45E5-8D7E-4C79E7DA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8069-5364-4A72-9E8A-64D301FB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034C-5D9E-4741-880F-0CEBDBE0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717-72AB-45A7-9C3A-13DAFF18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613-2A4D-4C9F-951C-3265A64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01F-6977-494B-9DE6-7D073224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493-7A78-4A45-AB5E-6ADF3F22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F6B-929C-48C6-BBEC-3EF406F4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1F6-86F1-49F9-83A9-2C0B21D7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E55-5059-4A0E-9CBD-ADDB5742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4E9E-94CD-4D2B-8344-115F744B7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E31-D983-4FD6-895B-641AFFCE0A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8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737000" y="838080"/>
            <a:ext cx="575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Геометрические фигу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архитектур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638680" y="2743200"/>
            <a:ext cx="327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вторы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рофеев Мар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ченик 11-го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952880" y="50292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уководитель  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арпова Кристи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Ивано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052520" y="6248520"/>
            <a:ext cx="15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Сыктывк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1200849"/>
          <p:cNvPicPr/>
          <p:nvPr/>
        </p:nvPicPr>
        <p:blipFill>
          <a:blip r:embed="rId1"/>
          <a:stretch/>
        </p:blipFill>
        <p:spPr>
          <a:xfrm>
            <a:off x="228600" y="25146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План Исаакиевского собора в Санкт-Петербург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ожно с уверен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казать, что в осно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рама лежат квадра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торые придают е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тойкости и равновес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plan_of_st__isaac27s_cathedral"/>
          <p:cNvPicPr/>
          <p:nvPr/>
        </p:nvPicPr>
        <p:blipFill>
          <a:blip r:embed="rId1"/>
          <a:stretch/>
        </p:blipFill>
        <p:spPr>
          <a:xfrm>
            <a:off x="0" y="1700280"/>
            <a:ext cx="4608360" cy="41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356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строении 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тянутого ввер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пола использовала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ая фигура, как цилин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f_7053623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43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стро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усских церкв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шатрового сти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рхитекто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сомненн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меняли фигу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ямоуголь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араллелепипед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линдры, кону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рамиды и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080124182808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48320" y="1066320"/>
            <a:ext cx="449568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азовая часть здания представляет собой невыпуклую прямую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зму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Призма является невыпуклой, благодаря  выступам, которые заполнены вертикальными рядами ок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klub_rusakova1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3247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0" y="4952880"/>
            <a:ext cx="47242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дание клуба имени И.В.Русакова в Москве. Это здание построено в 1929 г. по проекту архитектора К.Мельников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03848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которые архитектурные сооружения имеют довольно простую форму. Например, башня с часами, которая является обязательным атрибутом любого американского университета. Она имеет форму прямой четырехугольно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зм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которую еще называют прямоугольны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ллелепипедо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bashn_chas11"/>
          <p:cNvPicPr/>
          <p:nvPr/>
        </p:nvPicPr>
        <p:blipFill>
          <a:blip r:embed="rId1"/>
          <a:stretch/>
        </p:blipFill>
        <p:spPr>
          <a:xfrm>
            <a:off x="0" y="0"/>
            <a:ext cx="4438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8620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 чаще всего в архитектурном сооружении сочетаются различные геометрические фигуры. Например, в Спасской башне Московского кремля в основании можно увидеть прямо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ллелепипед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переходящий в средней части в фигуру, приближающуюся к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илиндру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завершается же о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рамидо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3" descr="1781494"/>
          <p:cNvPicPr/>
          <p:nvPr/>
        </p:nvPicPr>
        <p:blipFill>
          <a:blip r:embed="rId1"/>
          <a:srcRect l="17812" t="1772" r="0" b="0"/>
          <a:stretch/>
        </p:blipFill>
        <p:spPr>
          <a:xfrm>
            <a:off x="0" y="0"/>
            <a:ext cx="39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перь, подкрепив примерами утверждение, можно с уверенностью сказать, что Геометрические фигуры – ОСНОВА АРХИТЕК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7656603"/>
          <p:cNvPicPr/>
          <p:nvPr/>
        </p:nvPicPr>
        <p:blipFill>
          <a:blip r:embed="rId1"/>
          <a:stretch/>
        </p:blipFill>
        <p:spPr>
          <a:xfrm>
            <a:off x="5796000" y="4114800"/>
            <a:ext cx="3348000" cy="251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132196"/>
          <p:cNvPicPr/>
          <p:nvPr/>
        </p:nvPicPr>
        <p:blipFill>
          <a:blip r:embed="rId2"/>
          <a:stretch/>
        </p:blipFill>
        <p:spPr>
          <a:xfrm>
            <a:off x="0" y="2133720"/>
            <a:ext cx="3492360" cy="2620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324183_25"/>
          <p:cNvPicPr/>
          <p:nvPr/>
        </p:nvPicPr>
        <p:blipFill>
          <a:blip r:embed="rId3"/>
          <a:stretch/>
        </p:blipFill>
        <p:spPr>
          <a:xfrm>
            <a:off x="2050920" y="4508640"/>
            <a:ext cx="2935440" cy="23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080124182808"/>
          <p:cNvPicPr/>
          <p:nvPr/>
        </p:nvPicPr>
        <p:blipFill>
          <a:blip r:embed="rId4"/>
          <a:stretch/>
        </p:blipFill>
        <p:spPr>
          <a:xfrm>
            <a:off x="4114800" y="1981080"/>
            <a:ext cx="311796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1235116856_1235030663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066680" y="3808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сть ли геометрические фигуры в архитектур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9280" y="-360"/>
            <a:ext cx="820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 основе любого архитектурного сооружения лежат геометрические фигуры и тел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400px-Hexahedron"/>
          <p:cNvPicPr/>
          <p:nvPr/>
        </p:nvPicPr>
        <p:blipFill>
          <a:blip r:embed="rId1"/>
          <a:stretch/>
        </p:blipFill>
        <p:spPr>
          <a:xfrm>
            <a:off x="0" y="1828800"/>
            <a:ext cx="3043080" cy="338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20070921021819"/>
          <p:cNvPicPr/>
          <p:nvPr/>
        </p:nvPicPr>
        <p:blipFill>
          <a:blip r:embed="rId2"/>
          <a:stretch/>
        </p:blipFill>
        <p:spPr>
          <a:xfrm>
            <a:off x="2819520" y="397656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image11271"/>
          <p:cNvPicPr/>
          <p:nvPr/>
        </p:nvPicPr>
        <p:blipFill>
          <a:blip r:embed="rId3"/>
          <a:stretch/>
        </p:blipFill>
        <p:spPr>
          <a:xfrm>
            <a:off x="5791320" y="1752480"/>
            <a:ext cx="3063600" cy="3063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1685"/>
          <p:cNvPicPr/>
          <p:nvPr/>
        </p:nvPicPr>
        <p:blipFill>
          <a:blip r:embed="rId4"/>
          <a:stretch/>
        </p:blipFill>
        <p:spPr>
          <a:xfrm>
            <a:off x="5486400" y="4529160"/>
            <a:ext cx="349236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23563529380f9"/>
          <p:cNvPicPr/>
          <p:nvPr/>
        </p:nvPicPr>
        <p:blipFill>
          <a:blip r:embed="rId1"/>
          <a:stretch/>
        </p:blipFill>
        <p:spPr>
          <a:xfrm>
            <a:off x="3467160" y="0"/>
            <a:ext cx="5676840" cy="4000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505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названии усыпальниц египетских фараонов используется наз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5"/>
          <p:cNvPicPr/>
          <p:nvPr/>
        </p:nvPicPr>
        <p:blipFill>
          <a:blip r:embed="rId2"/>
          <a:srcRect l="0" t="0" r="0" b="9791"/>
          <a:stretch/>
        </p:blipFill>
        <p:spPr>
          <a:xfrm>
            <a:off x="0" y="354168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5334120" y="411480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транствен-ной геометрической фигуры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ирамиды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343040" y="685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нализ египетских пирамид показывает, что египтяне всегда стремились воплотить в своих пирамидах некоторые важные математические знания. В этом отношении весьма интересной является пирамида Хефрена. Измерения пирамиды показали, что угол наклона боковых граней в ней равен 53°12', что отвечает отношению катетов прямоугольного треугольника 4:3. Такое отношение катетов соответствует хорошо известному прямоугольному треугольнику со сторонами 3:4:5, который называют "совершенным", "священным" или "египетским" треуг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E:\Documents\Катя\eg101207-7.jpg"/>
          <p:cNvPicPr/>
          <p:nvPr/>
        </p:nvPicPr>
        <p:blipFill>
          <a:blip r:embed="rId1"/>
          <a:stretch/>
        </p:blipFill>
        <p:spPr>
          <a:xfrm>
            <a:off x="0" y="225360"/>
            <a:ext cx="4389480" cy="3541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http://gazpromschool.by.ru/projects/geometry/tr/images/tr113_2a1.gif"/>
          <p:cNvPicPr/>
          <p:nvPr/>
        </p:nvPicPr>
        <p:blipFill>
          <a:blip r:embed="rId2"/>
          <a:stretch/>
        </p:blipFill>
        <p:spPr>
          <a:xfrm>
            <a:off x="1219320" y="3352680"/>
            <a:ext cx="3578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еометрические фигуры окружают нас постоянно в обычной жизни, а знание их свойств облегчает человеку его существ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е геометрические формы «ладят» друг с другом.  Здания строятся в определённом порядке. Архитектор строго учитывает их формы при проектировании г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889440" cy="4132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PH02053J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24280" y="914400"/>
            <a:ext cx="4176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рмитаж в Петербург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StPeter-symniy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25780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этом зда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еобладают чет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инии и прямые уг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то очень схо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 такой фигур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ямоуго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араллепип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zimniy"/>
          <p:cNvPicPr/>
          <p:nvPr/>
        </p:nvPicPr>
        <p:blipFill>
          <a:blip r:embed="rId1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324183_25"/>
          <p:cNvPicPr/>
          <p:nvPr/>
        </p:nvPicPr>
        <p:blipFill>
          <a:blip r:embed="rId2"/>
          <a:stretch/>
        </p:blipFill>
        <p:spPr>
          <a:xfrm>
            <a:off x="5219640" y="4006800"/>
            <a:ext cx="3924360" cy="2851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zimniy_dvorec_1"/>
          <p:cNvPicPr/>
          <p:nvPr/>
        </p:nvPicPr>
        <p:blipFill>
          <a:blip r:embed="rId3"/>
          <a:stretch/>
        </p:blipFill>
        <p:spPr>
          <a:xfrm>
            <a:off x="0" y="3719520"/>
            <a:ext cx="536400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саакиевский со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93432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1938"/>
          <p:cNvPicPr/>
          <p:nvPr/>
        </p:nvPicPr>
        <p:blipFill>
          <a:blip r:embed="rId1"/>
          <a:stretch/>
        </p:blipFill>
        <p:spPr>
          <a:xfrm>
            <a:off x="468360" y="493560"/>
            <a:ext cx="8028000" cy="636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on</cp:lastModifiedBy>
  <dcterms:modified xsi:type="dcterms:W3CDTF">2010-05-28T12:15:3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